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7FB-F2A8-4075-8481-F3EACCF3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2BF-5812-4242-BB84-859364D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896-08CA-43C4-879E-4601D053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BD7-3A7E-4AB9-A30E-5FAB8357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FFB-67FB-494F-B1A1-71065790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311-8B09-4D48-A9B7-E20751B2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AA0-5A12-4680-A1EF-C7D5605D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5FB-796E-4DC2-93A3-0C950D2B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A95-B767-4A7D-9008-534A29C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460-B366-4A0E-8FE2-3CA9B76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C3F-86C7-4A11-86C5-818602D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3D3-C959-4787-8034-FE9ABA9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E8B-066C-431F-990A-7BA21D54F0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orm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guid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general tips to reme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 a formal ton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Be concise and to the point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ing should be logically structure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ing will normally be about a single topic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258920" y="37893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aragraphs should have a topic sentenc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Focus on facts and details related to the subject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e in the present tens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Use the third person, it should be unbiase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Final sentence is a summary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orm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Essay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ntro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what the essay is going to be ab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1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first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2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second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3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third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nclusion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ummarising your essay and its fi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our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ke all types of writing, the introduction should include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brief couple of sentences about 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your essay – what you’re trying to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infor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r reader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ummary of the main points you will be discussing in the ess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 main points is more than enou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body of your ess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member – each paragraph should be about a single top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should include a topic sentence at the beginning (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f each paragrap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. This will sum up what you are going to talk about in the remainder of the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 careful not to bring in any points you are going to make later. Each point is made – and developed - in each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ing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cide what your topic is going to be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find out three different points that you can develop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s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rfare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apons of World War 1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ular Callout 3"/>
          <p:cNvSpPr/>
          <p:nvPr/>
        </p:nvSpPr>
        <p:spPr>
          <a:xfrm>
            <a:off x="1131840" y="4789440"/>
            <a:ext cx="6896160" cy="1224000"/>
          </a:xfrm>
          <a:prstGeom prst="wedgeRectCallout">
            <a:avLst>
              <a:gd name="adj1" fmla="val -55884"/>
              <a:gd name="adj2" fmla="val 1084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ing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r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dimensions of the trenches, problems that would ca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ease in the trench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fe in the trench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87280" y="4797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be done for any topic – just think of three different parts about it to write about. Each part then becomes a para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47:48Z</dcterms:created>
  <dc:creator>Gibb</dc:creator>
  <dc:description/>
  <dc:language>en-US</dc:language>
  <cp:lastModifiedBy>Gibb</cp:lastModifiedBy>
  <dcterms:modified xsi:type="dcterms:W3CDTF">2011-12-13T20:17:14Z</dcterms:modified>
  <cp:revision>3</cp:revision>
  <dc:subject/>
  <dc:title>Informative Writing</dc:title>
</cp:coreProperties>
</file>